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C7A3-FEEB-467E-B619-ED07F214E0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5DB3-4A97-45B4-A445-E08AE0F73F1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7196-D7DE-45E6-B442-31F5E6B3843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74A5-2899-4480-B66B-ECFF6DF08AD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C69-571C-4038-B879-B108ED7C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488-124D-4AF6-8B4A-74D1C29D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F7B8-4D98-4769-A32B-D59051BD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5C5F-34AF-49DF-9D1C-C41526F2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541-6055-454C-80B5-EC5285B0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12E-9926-44B0-91C3-1ACCC84C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C3B-8941-4C8D-B109-DF0F631E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75C-F494-4C49-A592-003FE9DD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B3B3-30CA-46F8-8ABA-DE8FF72A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7FD1-3328-41A3-A18E-5F6C61BE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65EE-B2AA-4271-A8C6-2DEFEFF2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8F9-4B4C-493C-9D38-AA732B56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474B-4463-4898-937A-838FC76287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9346-17EB-4E8C-ABDA-611081E3C70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report-cover-powerpoint.jpg"/>
          <p:cNvPicPr/>
          <p:nvPr/>
        </p:nvPicPr>
        <p:blipFill>
          <a:blip r:embed="rId1"/>
          <a:stretch/>
        </p:blipFill>
        <p:spPr>
          <a:xfrm>
            <a:off x="-12600" y="819000"/>
            <a:ext cx="9131040" cy="55627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79280" y="1268280"/>
            <a:ext cx="8713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0253f"/>
                </a:solidFill>
                <a:latin typeface="Century Gothic"/>
              </a:rPr>
              <a:t>PRESENTATION ON RWANDA OBSERVATION CAPABILITY AND NATIONAL REQUIREMENT FOR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 3" descr="rwanda-meteorological-service-logo.jpg"/>
          <p:cNvPicPr/>
          <p:nvPr/>
        </p:nvPicPr>
        <p:blipFill>
          <a:blip r:embed="rId2"/>
          <a:stretch/>
        </p:blipFill>
        <p:spPr>
          <a:xfrm>
            <a:off x="6129360" y="371520"/>
            <a:ext cx="26668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7416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DATA COLLECTION, QUALITY CONTROL AND ARCH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 3" descr="rwanda-meteorological-service-logo.jpg"/>
          <p:cNvPicPr/>
          <p:nvPr/>
        </p:nvPicPr>
        <p:blipFill>
          <a:blip r:embed="rId1"/>
          <a:stretch/>
        </p:blipFill>
        <p:spPr>
          <a:xfrm>
            <a:off x="6659640" y="0"/>
            <a:ext cx="2308320" cy="86508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ntent Placeholder 8" descr="Meteorological processes.jpg"/>
          <p:cNvPicPr/>
          <p:nvPr/>
        </p:nvPicPr>
        <p:blipFill>
          <a:blip r:embed="rId2"/>
          <a:stretch/>
        </p:blipFill>
        <p:spPr>
          <a:xfrm>
            <a:off x="539640" y="1557360"/>
            <a:ext cx="813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ontent Placeholder 4" descr=""/>
          <p:cNvPicPr/>
          <p:nvPr/>
        </p:nvPicPr>
        <p:blipFill>
          <a:blip r:embed="rId1"/>
          <a:stretch/>
        </p:blipFill>
        <p:spPr>
          <a:xfrm>
            <a:off x="457200" y="1654200"/>
            <a:ext cx="8229600" cy="4417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684360" y="620640"/>
            <a:ext cx="84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eo Rwanda Climate Data Management Proces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ional plan for observation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cquire s-band weather Rad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Lightning detector to be ac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iosondes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DAR program is also plan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gister as many as Observing stations in WIGOS/OSC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perate main stations 24hrs/7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77de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6"/>
          <p:cNvSpPr/>
          <p:nvPr/>
        </p:nvSpPr>
        <p:spPr>
          <a:xfrm>
            <a:off x="0" y="60948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 3" descr="rwanda-meteorological-service-logo.jpg"/>
          <p:cNvPicPr/>
          <p:nvPr/>
        </p:nvPicPr>
        <p:blipFill>
          <a:blip r:embed="rId1"/>
          <a:stretch/>
        </p:blipFill>
        <p:spPr>
          <a:xfrm>
            <a:off x="6705720" y="228600"/>
            <a:ext cx="1955520" cy="733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483920"/>
            <a:ext cx="820908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ublic of Rw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wanda is mountaineous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d in central east of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Land locked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bordering with 4 countries namely, Uganda in North, Tanzania in East, Burundi in South and DRC in 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ze;26,338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wanda on African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4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5832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333360"/>
          <a:ext cx="6551640" cy="4876920"/>
        </p:xfrm>
        <a:graphic>
          <a:graphicData uri="http://schemas.openxmlformats.org/drawingml/2006/table">
            <a:tbl>
              <a:tblPr/>
              <a:tblGrid>
                <a:gridCol w="425520"/>
                <a:gridCol w="1373040"/>
                <a:gridCol w="720720"/>
                <a:gridCol w="1728720"/>
                <a:gridCol w="863640"/>
                <a:gridCol w="1440000"/>
              </a:tblGrid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on 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servations &amp;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9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synoptic s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speed 2m, 10m Wind Direction 2m, 1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dow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y 1 at Kigali International Airport operates 24hrs 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report hourly 12h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94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o-meteorologic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speed 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Direction 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p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mois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operation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ly 12h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55640" y="476280"/>
          <a:ext cx="6551640" cy="5851440"/>
        </p:xfrm>
        <a:graphic>
          <a:graphicData uri="http://schemas.openxmlformats.org/drawingml/2006/table">
            <a:tbl>
              <a:tblPr/>
              <a:tblGrid>
                <a:gridCol w="425520"/>
                <a:gridCol w="1373040"/>
                <a:gridCol w="720720"/>
                <a:gridCol w="1728720"/>
                <a:gridCol w="863640"/>
                <a:gridCol w="1440000"/>
              </a:tblGrid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on 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servations &amp;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matic stat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 records/ monthly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al Rain gauge stat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 records/ monthly rep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51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atic Weather st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 speed and Direction 2m, 1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atic Rain Gau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f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9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ather Rad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hr/7da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 Satellite Receiv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oper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hrs/7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es data 24h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synoptic stations registered in Osc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747880" y="2173320"/>
            <a:ext cx="3648240" cy="3381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077de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6"/>
          <p:cNvSpPr/>
          <p:nvPr/>
        </p:nvSpPr>
        <p:spPr>
          <a:xfrm>
            <a:off x="0" y="60948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80880" y="1828800"/>
            <a:ext cx="84582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Photo-0606.jpg"/>
          <p:cNvPicPr/>
          <p:nvPr/>
        </p:nvPicPr>
        <p:blipFill>
          <a:blip r:embed="rId1"/>
          <a:stretch/>
        </p:blipFill>
        <p:spPr>
          <a:xfrm>
            <a:off x="6242040" y="800280"/>
            <a:ext cx="2901960" cy="2993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125280" y="907920"/>
            <a:ext cx="3076560" cy="2449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-1249200" y="0"/>
            <a:ext cx="79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BSERVING SYSTEM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:\Documents and Settings\Administrator\Desktop\Meteo Rwanda Logo copy.JPG"/>
          <p:cNvPicPr/>
          <p:nvPr/>
        </p:nvPicPr>
        <p:blipFill>
          <a:blip r:embed="rId3"/>
          <a:stretch/>
        </p:blipFill>
        <p:spPr>
          <a:xfrm>
            <a:off x="7427880" y="-27000"/>
            <a:ext cx="175248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20150126_104232"/>
          <p:cNvPicPr/>
          <p:nvPr/>
        </p:nvPicPr>
        <p:blipFill>
          <a:blip r:embed="rId4"/>
          <a:stretch/>
        </p:blipFill>
        <p:spPr>
          <a:xfrm>
            <a:off x="6242040" y="3868560"/>
            <a:ext cx="2868480" cy="2352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IMG-20150602-WA0008"/>
          <p:cNvPicPr/>
          <p:nvPr/>
        </p:nvPicPr>
        <p:blipFill>
          <a:blip r:embed="rId5"/>
          <a:stretch/>
        </p:blipFill>
        <p:spPr>
          <a:xfrm>
            <a:off x="0" y="3854520"/>
            <a:ext cx="3262320" cy="2367000"/>
          </a:xfrm>
          <a:prstGeom prst="rect">
            <a:avLst/>
          </a:prstGeom>
          <a:ln w="0">
            <a:noFill/>
          </a:ln>
        </p:spPr>
      </p:pic>
      <p:sp>
        <p:nvSpPr>
          <p:cNvPr id="76" name="Freccia a destra 3"/>
          <p:cNvSpPr/>
          <p:nvPr/>
        </p:nvSpPr>
        <p:spPr>
          <a:xfrm rot="10800000">
            <a:off x="3564000" y="1053360"/>
            <a:ext cx="2232000" cy="10796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sellaDiTesto 5"/>
          <p:cNvSpPr/>
          <p:nvPr/>
        </p:nvSpPr>
        <p:spPr>
          <a:xfrm>
            <a:off x="3602160" y="10508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tomatic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ccia a destra 6"/>
          <p:cNvSpPr/>
          <p:nvPr/>
        </p:nvSpPr>
        <p:spPr>
          <a:xfrm>
            <a:off x="3713040" y="2297160"/>
            <a:ext cx="2529000" cy="1203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sellaDiTesto 7"/>
          <p:cNvSpPr/>
          <p:nvPr/>
        </p:nvSpPr>
        <p:spPr>
          <a:xfrm>
            <a:off x="3759120" y="2759040"/>
            <a:ext cx="18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nual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ccia a destra 8"/>
          <p:cNvSpPr/>
          <p:nvPr/>
        </p:nvSpPr>
        <p:spPr>
          <a:xfrm rot="10800000">
            <a:off x="3274560" y="3868560"/>
            <a:ext cx="2343240" cy="936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asellaDiTesto 9"/>
          <p:cNvSpPr/>
          <p:nvPr/>
        </p:nvSpPr>
        <p:spPr>
          <a:xfrm>
            <a:off x="3564000" y="414972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tellite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ccia a destra 10"/>
          <p:cNvSpPr/>
          <p:nvPr/>
        </p:nvSpPr>
        <p:spPr>
          <a:xfrm>
            <a:off x="3995640" y="5445000"/>
            <a:ext cx="2376720" cy="77652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sellaDiTesto 11"/>
          <p:cNvSpPr/>
          <p:nvPr/>
        </p:nvSpPr>
        <p:spPr>
          <a:xfrm>
            <a:off x="4284720" y="566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eather R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1"/>
          <p:cNvSpPr/>
          <p:nvPr/>
        </p:nvSpPr>
        <p:spPr>
          <a:xfrm>
            <a:off x="3419640" y="609300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7" name="Picture 3" descr="report-cover-powerpoint.jpg"/>
          <p:cNvPicPr/>
          <p:nvPr/>
        </p:nvPicPr>
        <p:blipFill>
          <a:blip r:embed="rId1"/>
          <a:stretch/>
        </p:blipFill>
        <p:spPr>
          <a:xfrm>
            <a:off x="0" y="1371600"/>
            <a:ext cx="9005760" cy="54864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1835280" y="-31428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Century Gothic"/>
              </a:rPr>
              <a:t>Capabilities    CONT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 3" descr="rwanda-meteorological-service-logo.jpg"/>
          <p:cNvPicPr/>
          <p:nvPr/>
        </p:nvPicPr>
        <p:blipFill>
          <a:blip r:embed="rId2"/>
          <a:stretch/>
        </p:blipFill>
        <p:spPr>
          <a:xfrm>
            <a:off x="6129360" y="371520"/>
            <a:ext cx="2666880" cy="1000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557280" y="652320"/>
            <a:ext cx="65880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dar Coverage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50 Km, beam width: 1-degree, polarisation: dual pol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DIS 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installed at the airport and its ope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WOS at the airport: it is operatio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gh capacity computing systems (cluster server)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databank management and NWP mod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national Data Sharing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matic Message Switching System (AMSS) acqui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ATIAL DISTRIBUTION OF OBSERVING SYSTEM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report-cover-powerpoint.jpg"/>
          <p:cNvPicPr/>
          <p:nvPr/>
        </p:nvPicPr>
        <p:blipFill>
          <a:blip r:embed="rId1"/>
          <a:stretch/>
        </p:blipFill>
        <p:spPr>
          <a:xfrm>
            <a:off x="857160" y="1600200"/>
            <a:ext cx="742968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 3" descr="rwanda-meteorological-service-logo.jpg"/>
          <p:cNvPicPr/>
          <p:nvPr/>
        </p:nvPicPr>
        <p:blipFill>
          <a:blip r:embed="rId2"/>
          <a:stretch/>
        </p:blipFill>
        <p:spPr>
          <a:xfrm>
            <a:off x="6154560" y="0"/>
            <a:ext cx="2667240" cy="1000080"/>
          </a:xfrm>
          <a:prstGeom prst="rect">
            <a:avLst/>
          </a:prstGeom>
          <a:ln w="0">
            <a:noFill/>
          </a:ln>
        </p:spPr>
      </p:pic>
      <p:sp>
        <p:nvSpPr>
          <p:cNvPr id="9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Use weather climate information in your daily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5472000" cy="403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13:01:48Z</dcterms:created>
  <dc:creator>steve.palmer</dc:creator>
  <dc:description/>
  <dc:language>en-US</dc:language>
  <cp:lastModifiedBy>Godfrey</cp:lastModifiedBy>
  <cp:lastPrinted>2014-09-11T06:35:56Z</cp:lastPrinted>
  <dcterms:modified xsi:type="dcterms:W3CDTF">2018-08-15T09:15:37Z</dcterms:modified>
  <cp:revision>320</cp:revision>
  <dc:subject/>
  <dc:title>Slide 1</dc:title>
</cp:coreProperties>
</file>